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9C9-06C3-404F-AB5B-CFE60629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B6F-CF00-4904-87EE-965D0E15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E20-3ACA-4A8D-960B-9FE5EFFD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31D-5A1F-465F-8A05-0378952B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B94-A063-4611-92C4-135D148B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EF9-B699-45B8-B417-8DCDA12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4AD-13B5-4119-AAD7-29CD869B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EE6-32B5-46B9-8BD6-178878E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CDA-08C5-43D4-8978-7F0EB745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BE1-6B54-46DB-BCDE-03CE4E4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C57-B93B-4487-A11E-1939643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E54-93E0-42CD-8219-EB7102A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2A4C-2B26-44E3-918C-B214712E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ergent Dim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an emergent property of comprehensibil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is not a separate component skill but, rather, a dimension of the meaningfulness of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erves as an index of the degree of ongoing comprehension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kins (2002) has discussed this phenomenon in terms of many different “pragmatic behaviors” in other forms of meaning making like speech, conversation, learning, and various compensatory behaviors in struggling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onceptualization of Fluency works best for our Struggling Rea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some of the implications of the obtained respo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research from our authentic working laboratory at the University of Louisiana at Lafay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e University of Louisiana at Lafayette Summer Language and Literacy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ur previous research, on literacy in struggl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acy of Meaning-based intervention with Dyslexic and Language Disordered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of Literacy Development in LD Students (Nel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Mixed Literacy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of Avoidance Strategies During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acy of Phonemic Awareness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Literacy Problems on Students and their Fami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took Several Qualitative Projects/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ed Data across 19 LD/Dyslexic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ed data over three summer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d videotap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d participant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d various reading recording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Several specific treatment paradig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zed both pedagogical and assessm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all Current Resul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d upon our Work, Fluency operates more as an Emergent Dimension than a Component S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has very specific Im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Recent Data with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ruggl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familia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high Quality miscue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effective ret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Plausible prediction Consistent (average) increase in fluency just after intervention e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/19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(counted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(rating scale increase by “blind” ra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Recent Data with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ruggl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consistent increase in fluency after “weaving in meaning” rather than “non-meaningful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ual parameters focused on are cru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ras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erms of number of words an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moothne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eginning r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ton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ding with punct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ater r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luency as an Emergent Dim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consistency with those who see it as an emergent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Reading Fluency as a Diagnostic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edagogical Inde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k S. Damico,  Ph.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niversity of Louisiana at Lafa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luency as an Emergent Dim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y Associated with overall pro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Fluency a significant factor among struggling r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nerally reliable predictor of reading comprehension in early g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cus on meaningfulness is the best way to achieve fl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actical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y should be viewed as an emergent phenomeno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component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diagnostic value in discern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pedagogical value in employing an intervention at sites of fluenc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the efficiency and effectiveness of intervention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Assessment and 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Assess Authentic Literacy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Cueing systems are available during the reading or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ading or writing is for real purpos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SERVING ACTUAL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 of Continuous Phr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ropriate Into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with Punc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for Change in Flu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for “Shadowing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for Low Quality Misc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Pedagogy and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cus should be on authentic reading of meaningful texts for authentic purpo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cus on the change in fluency as an index of when to intervene during authentic read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Pedagogy and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using documented strategies to increase fluency, recognize the force of meaningful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Fl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ed 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ce with familia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etry re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ers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rto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ired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Development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Pedagogy and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e that meaning and comprehension is the crucial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this in min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ware the Pedagogical or Curricular Fall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rewarding reading experience in which the learner – or group of lear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es the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serves a more competent read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ing it with fluency and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 is invited to read 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mediational frame where most of the real “action” in working on literacy occu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General 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ldren are not risk-takers so you should mediate to make the task sa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erials make a great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miliar v. Un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arrative v. Ex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ility to read a text quickly, accurately, and with proper expression” (NRP,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ility to read expressively, meaningfully, with appropriate phrasing, and with appropriate speed” (Rasinski &amp; Padak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Meaningfulness is so crucial, how do we Weave it in?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ugh engaging Read Alou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a number of excellen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rategi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uring Shared 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Weaving in Mean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 or re-read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mediate Synop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mittent Summ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Weaving in Mean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t Pred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agery or Visu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ggest the child 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ad it like the character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Weaving in Mean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a-literacy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 the child re-read what has just been read (for authentic reason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restat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monstration Thre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uency should be viewed as an Emergent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specific Diagnostic and Pedagogical 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atic Observation and Qualitative Research can provide some illumination on thes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k S. D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ris B. Hawthorn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niversity of Louisiana at Lafa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37-482-67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damico@louisiana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meters often cited for Flu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ds per minute, reading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rac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d recognition, de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ds per phrase group, intonation, reading with punctu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oothn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esitations, false starts, repet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ven rate, conversational, degree of lab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monstration 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ed either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rms tend to refer to different conceptualizations of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ponent Sk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mergent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 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arate from othe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of the component categories often c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emic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 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dge between word recognition/compreh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accuracy in word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automaticity in word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syntactic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 students become more fluent, their word recognition improves and so does their comprehension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Rasinski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glected Goal of the reading program (Alling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ergent Dim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is an epiphenomenal result of the comprehensibility derived from the process of r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n indication of the degree of comprehension during r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hension itself is a product of an interaction between the incoming data received from the text(s), the background information brought to the task by the reader, and the readers meaning making capa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is an emergent product of the reader’s ongoing comprehension of the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5:41:56Z</dcterms:created>
  <dc:creator>Valued Gateway Client </dc:creator>
  <dc:description/>
  <dc:language>en-US</dc:language>
  <cp:lastModifiedBy>Jack Damico</cp:lastModifiedBy>
  <dcterms:modified xsi:type="dcterms:W3CDTF">2008-01-14T16:30:01Z</dcterms:modified>
  <cp:revision>125</cp:revision>
  <dc:subject/>
  <dc:title>PowerPoint Presentation</dc:title>
</cp:coreProperties>
</file>